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92D3-6FD0-40F0-962C-69423FC4AE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techniques for mini-projects  and in disser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an ejournal written by Comms system lectu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D6C-34D1-4AF6-A284-BF22865D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119-1D66-49F3-8FD5-077F322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9E6-33DC-4B87-A630-FFD7D6B2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791-1387-47B8-A322-D9EB44EB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7CC-38A9-4E28-9E68-65C51FEC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96B-CC13-4D96-A281-30B16BC2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244-32E1-416F-930B-821B9FDE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EF3-7D8B-4996-941A-854C441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343-9773-4875-8B49-B81CB0A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875-8AD8-4BC3-BE5A-74594F2E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CCD-763D-4F70-9574-C923D2B8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CF4-58F6-4919-AA57-1461AF9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59C-304F-486F-B1C9-64BDF5C391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EE40-18A5-47EC-BACC-B26D0D5D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Reading Research Reports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8191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Robert Blake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rebuchet MS"/>
              </a:rPr>
              <a:t>Student Learning Development Centre</a:t>
            </a:r>
            <a:endParaRPr b="0" lang="en-US" sz="29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3CB-03B0-4E51-9C96-9111725375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-IMR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any scientific &amp; engineering reports are based on an IMRaD structure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ntroduc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tho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sult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rebuchet MS"/>
              </a:rPr>
              <a:t>  </a:t>
            </a:r>
            <a:r>
              <a:rPr b="1" i="1" lang="en-US" sz="2800" spc="-1" strike="noStrike">
                <a:solidFill>
                  <a:srgbClr val="336699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336699"/>
                </a:solidFill>
                <a:latin typeface="Trebuchet MS"/>
              </a:rPr>
              <a:t>   </a:t>
            </a:r>
            <a:r>
              <a:rPr b="1" i="1" lang="en-US" sz="2800" spc="-1" strike="noStrike">
                <a:solidFill>
                  <a:srgbClr val="336600"/>
                </a:solidFill>
                <a:latin typeface="Trebuchet MS"/>
              </a:rPr>
              <a:t>A</a:t>
            </a:r>
            <a:r>
              <a:rPr b="0" i="1" lang="en-US" sz="2800" spc="-1" strike="noStrike">
                <a:solidFill>
                  <a:srgbClr val="336600"/>
                </a:solidFill>
                <a:latin typeface="Trebuchet MS"/>
              </a:rPr>
              <a:t>nd</a:t>
            </a: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D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scuss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n  some reports there is also a conclusion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Can you trace an IMRaD structure in this  article?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If the terms are different, what are they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2BB-23CE-4960-A645-F975F239FD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- IMR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hilst many scientific &amp; engineering reports are based on an IMRaD structure.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t the same time there may also be a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Situa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Problem 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             patter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Solu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Evalua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n some reports this may be recursive- repeated until an appropriate solution is reached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2852640"/>
            <a:ext cx="649440" cy="1800360"/>
          </a:xfrm>
          <a:custGeom>
            <a:avLst/>
            <a:gdLst>
              <a:gd name="textAreaLeft" fmla="*/ 0 w 649440"/>
              <a:gd name="textAreaRight" fmla="*/ 234360 w 6494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FCB-864F-4E4E-BA22-168349C79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- IMR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other strategies &amp; information  did you use to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elp you work out the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main idea of the article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1DE-0853-4539-BF09-6BC00A2EC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Q3R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e’ve been using the 1st stage of</a:t>
            </a: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rebuchet MS"/>
              </a:rPr>
              <a:t>SQ3R 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e 5 stages are:</a:t>
            </a:r>
            <a:r>
              <a:rPr b="1" i="1" lang="en-US" sz="3200" spc="-1" strike="noStrike">
                <a:solidFill>
                  <a:srgbClr val="000066"/>
                </a:solidFill>
                <a:latin typeface="Trebuchet MS"/>
              </a:rPr>
              <a:t>               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RVEY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Q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ES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A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CAL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VIEW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BBD-F5B0-4E57-9825-6CDECB28F7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Q3R- Survey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Once you have an idea of the overall structure by surveying the text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reduce your processing load when you come to read the article closely.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then work out the structure &amp; meaning of smaller chunk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also identify which bits to glide over and which bits to concentrate 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ADA-8454-4D7C-8249-7CC3B034BA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Q3R- Questioning</a:t>
            </a:r>
            <a:r>
              <a:rPr b="0" lang="en-US" sz="1800" spc="-1" strike="noStrike">
                <a:solidFill>
                  <a:srgbClr val="008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86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e 2nd stage of SQ3R i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to ques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is involv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aking questions about what you want to learn from the article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dopting a critical i.e. evaluative frame of min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3E3-0ACF-46C3-84AE-AFEDD1AAD8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Question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hy formulate question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ing to answer specific questions allows you to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 more purposefully &amp; ‘time-efficiently’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give you points to look out for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llows you to glide over unimportant section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eans that you’re reading critically- interacting with the content and evaluating, thereby reading at postgrad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DC5-E81D-478D-9559-4C7F911010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Question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557000"/>
            <a:ext cx="71625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rebuchet MS"/>
              </a:rPr>
              <a:t>   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Now use your knowledge of the article from the surveying stage to make 3-4 questions about the topic of the article [maximum 5 minutes]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sort of questions did you formulate?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03E-AAB3-4068-BA5D-0D87A7BD27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ad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086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Spend 10 minutes reading the article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ith the purpose of finding answers to your question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71C-0F5F-45BB-BCE7-C033184893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questions did you ask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Did you succeed in finding answers to your question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ow well has surveying &amp; questioning worked so far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660-4D0C-4DC4-B82E-3B73906C3C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360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is session covers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712800" indent="-71280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search report structure in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ommunication System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712800" indent="-712800">
              <a:lnSpc>
                <a:spcPct val="1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fficient reading techniqu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712800" indent="-712800">
              <a:lnSpc>
                <a:spcPct val="1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voiding plagiarism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6E7-B2A2-4895-9C63-53DA75316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 &amp; Review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629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e final two stages are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cal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view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ecall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- unless you have a remarkable memory you’ll probably forget 50% of what you read, shortly after reading. So you’ll need make a deliberate attempt to recall the key ideas &amp;/or take not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597-84DD-4B21-A5E4-600CD30BE7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record your notes in a number of ways including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Linear not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low diagrams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ind maps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570-F418-43E3-9ACD-D57587886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An example of Mind maps from Tony Buza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http://www.mind-map.com/EN/mindmaps/how_to.html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2209680"/>
          <a:ext cx="67816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781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1BF-51DD-443C-9C7D-2FE3AB55F9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13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se subordination to identify the importance of information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key information on the left hand side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detailed points in the middle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omments &amp; questions on the right hand side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CD0-3A82-4005-ABF0-F48A23A786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rebuchet MS"/>
            </a:endParaRPr>
          </a:p>
          <a:p>
            <a:pPr marL="285840" indent="-285840"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ymbols and abbreviations can save valuable time, enabling you to write less and identify the main points more efficiently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11B-522B-4725-9B03-DA9B6A71D1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hen taking notes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member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on each page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of your notes to record author[s], year, title of book or journal, article name,+ pages if journal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paraphrase the key idea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put quotations i.e. any identical chunks of the original article  in speech marks “”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ese techniques will help you to avoid plagiarism, the serious offence of using other people’s ideas as if they were your ow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C9F-3CDB-4573-B4FC-6959B1BA65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345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view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eview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How well can you recall the key ideas? Look at your questions. Can you still remember the answers?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f not, reread to refresh your knowledge and fill the gaps in your knowledge       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NB This is very useful for test and exam revision!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04C-D981-4E67-8BC3-9A3052C115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511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rebuchet MS"/>
              </a:rPr>
              <a:t>Avoiding Plagiarism</a:t>
            </a: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AE9-65FC-4D79-A964-7470867479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rebuchet MS"/>
              </a:rPr>
              <a:t>Which Of These Is Plagiarism?</a:t>
            </a:r>
            <a:endParaRPr b="0" lang="en-US" sz="20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1. Copying a paragraph verbatim from a source without any acknowledgement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2. Copying a paragraph and making small changes - e.g. replacing a few verbs, replacing an adjective with a synonym; acknowledgement in the bibliography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3. Cutting and pasting a paragraph by using sentences of the original but omitting one or two and putting one or two in a different order, no quotation marks; with an in-text acknowledgement plus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4. Composing a paragraph by taking short phrases from a number of sources and putting them together using words of your own to make a coherent whole with an in-text acknowledgement +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5. Paraphrasing a paragraph by rewriting with substantial changes in language and organisation; the new version will also have changes in the amount of detail used and the examples cited; citing in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6. Quoting a paragraph by placing it in block format with the source cited in text &amp;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[Carroll J. 2000   </a:t>
            </a:r>
            <a:r>
              <a:rPr b="0" i="1" lang="en-US" sz="1400" spc="-1" strike="noStrike">
                <a:solidFill>
                  <a:srgbClr val="000066"/>
                </a:solidFill>
                <a:latin typeface="Trebuchet MS"/>
              </a:rPr>
              <a:t>Teaching News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  November, 2000. Based on an exercise in </a:t>
            </a:r>
            <a:r>
              <a:rPr b="0" i="1" lang="en-US" sz="1400" spc="-1" strike="noStrike">
                <a:solidFill>
                  <a:srgbClr val="000066"/>
                </a:solidFill>
                <a:latin typeface="Trebuchet MS"/>
              </a:rPr>
              <a:t>Academic Writing for Graduate Students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 by Swales and Feale, University of Michigan, 1993] on http://www.ilt.ac.uk/resources/Jcarroll.htm Accessed 12/05/2003 ]</a:t>
            </a:r>
            <a:endParaRPr b="0" lang="en-US" sz="1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BD6-36FD-4575-B0EB-7FF5533915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734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Avoiding Plagiarism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3000"/>
          <a:ext cx="748836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48836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39680" y="5659920"/>
            <a:ext cx="90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Purdue University, http://owl.english.purdue.edu/handouts/research/r_plagiar.html accessed 14 May 20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DB3-B8E9-4D1F-93C1-6427DD48C0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How we read?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irst a question about reading skills in general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ow do you rea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 novel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 newspaper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ssessment feedback  on a mini-projec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the blurb on a DVD or video film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 letter from your partner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FFE-AED0-4A7D-BF8C-74BEFD9E80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Avoiding Plagiarism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Practise paraphrasing from the beginning of your course look at: </a:t>
            </a:r>
            <a:endParaRPr b="0" lang="en-US" sz="27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Trebuchet MS"/>
              </a:rPr>
              <a:t>http://owl.english.purdue.edu/handouts/research/r_paraphr.html</a:t>
            </a:r>
            <a:endParaRPr b="0" lang="en-US" sz="26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Trebuchet MS"/>
              </a:rPr>
              <a:t>http://www.uefap.com/writing/report/rep_para.htm</a:t>
            </a:r>
            <a:endParaRPr b="0" lang="en-US" sz="26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-339480">
              <a:spcBef>
                <a:spcPts val="67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Remember to reference </a:t>
            </a:r>
            <a:r>
              <a:rPr b="1" lang="en-GB" sz="2700" spc="-1" strike="noStrike">
                <a:solidFill>
                  <a:srgbClr val="000066"/>
                </a:solidFill>
                <a:latin typeface="Trebuchet MS"/>
              </a:rPr>
              <a:t>all original ideas</a:t>
            </a: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 that are not common knowledge </a:t>
            </a:r>
            <a:endParaRPr b="0" lang="en-US" sz="27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rebuchet MS"/>
              </a:rPr>
              <a:t>http://www.uefap.com/writing/citation/citefram.ht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-339480">
              <a:spcBef>
                <a:spcPts val="67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Remember that software programs are used to detect plagiarism from the internet &amp; plagiarism between students on the same course</a:t>
            </a:r>
            <a:endParaRPr b="0" lang="en-US" sz="27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80A-B1C8-4EA3-A8B3-557A973458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SQ3R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If you want to read more about SQ3R,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see Rowntree’s excellent book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Derek Rowntree (1998) Learn How to Study,Warner Book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175-E464-4545-9087-CF807505D6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Reading strategies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e change speeds &amp; depths of reading according to our purpose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kimming and scann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light read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‘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normal’ read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ntensive reading i.e. reading with great atten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ritical reading to evaluate texts &amp; then  answer specific research questions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.g. design, operation, etc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BBE-5A1A-4291-9701-5F45FF76A9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</a:t>
            </a: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have a pile of research papers to read just like the one handed to you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re you going to read them all in depth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ow are you going to make efficient use of your time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0A0-FFC7-4540-A111-364434379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</a:t>
            </a:r>
            <a:br>
              <a:rPr sz="2800"/>
            </a:b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3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Look at either the article by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Coulton and Honary </a:t>
            </a:r>
            <a:r>
              <a:rPr b="1" lang="en-GB" sz="2800" spc="-1" strike="noStrike">
                <a:solidFill>
                  <a:srgbClr val="000066"/>
                </a:solidFill>
                <a:latin typeface="Trebuchet MS"/>
              </a:rPr>
              <a:t>or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b) Coulton, Rashid and Ahmed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or find an article in your own scientific field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rebuchet MS"/>
              </a:rPr>
              <a:t>What strategies are you going to use to read i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454-9928-4BFC-AA0B-61A9CF3FF3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Strategies for </a:t>
            </a:r>
            <a:r>
              <a:rPr b="0" i="1" lang="en-US" sz="2800" spc="-1" strike="noStrike">
                <a:solidFill>
                  <a:srgbClr val="008000"/>
                </a:solidFill>
                <a:latin typeface="Trebuchet MS"/>
              </a:rPr>
              <a:t>Surveying</a:t>
            </a: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 Research Reports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se the abstract to get an overview of content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kimming &amp; scann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 the intros &amp; conclusions first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can headings &amp; sub-heading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can graphical information: tables, figur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 topic sentences &amp; concluding sentences of paragraph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glide over each paragraph to pick up key word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D40-2474-40A5-9D46-17BA318DCD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7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Now have a go at surveying the report as a whole using the strategies just suggested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Spend about 7-8 minut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8CB-DDC2-4E49-9AD6-892002693D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did you learn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is the overall structure of this article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EA3-7094-49AF-8D04-3E43F4FC0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ker1</cp:lastModifiedBy>
  <dcterms:modified xsi:type="dcterms:W3CDTF">2006-11-01T12:03:10Z</dcterms:modified>
  <cp:revision>25</cp:revision>
  <dc:subject/>
  <dc:title>PowerPoint Presentation</dc:title>
</cp:coreProperties>
</file>